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8AFB-F357-4B86-A1E8-FD16EF57E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56C7-B4C9-4F8B-AE51-2C3CC4643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85792-E6BF-4B0F-AE8D-BF7F447EB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117B-9BD6-4CB0-AA3C-4068058A30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05688-BC1B-418E-B512-C149FB2D4A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4A70-6346-49D9-8438-8383ECCCA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46CC-77FE-4298-A876-70D6DA767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A81E-A2F1-4A86-9CB2-AEDB300C0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2789-706C-4134-A25E-6FC6FD852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72EA-151D-4487-BAFE-0D6F0C002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34FF8-07CF-4024-8684-F362A192C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7B44-EA54-433E-AD11-7ABB30F3B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B34094F-0A3F-4099-BE7B-0814CDA119A3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33160"/>
            <a:ext cx="7772400" cy="1663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Tabla del 8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96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Extendida con deci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1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12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1 X 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 X 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0,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0,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1 X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 X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0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0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 X 1,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 X 1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8 X 7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0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8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8 X 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8 X 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05-16T21:39:48Z</dcterms:modified>
  <cp:revision>2</cp:revision>
  <dc:subject/>
  <dc:title/>
</cp:coreProperties>
</file>